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5FB8F-2582-4A39-BC6C-C4F18C19C5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4648F-AA2B-47B1-BB69-A7FDFEE7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FEF18-3534-4D4E-8ABA-8F4062745F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BDD13-2DC8-47D7-96E4-60CB5E3F42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8CCD5-AFD8-4174-AA63-C53A854D4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03EAA6-6F37-4439-A151-12D49B37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5944EE-7D2D-4FEB-8382-89B6B2182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0873-94DB-40F8-9709-81335538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BB292-B694-43A2-88D0-15160B2E1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1849-88FF-49E9-B70D-EA123D8B6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6BDC9-71B3-4249-9C3B-1E229AAA9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EA57F-AB3E-4F70-AF37-D3967A5C8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3AF1E-D5AB-4A90-97B2-F0DA03F02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97239-FA34-4342-8547-A52141ACB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E09C-21AE-4D14-B463-8F97F07FA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73723-F0F9-4A5A-B664-1230D7F85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65170-4ECD-44FA-A132-F146206324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0EE0-4E7A-455B-8656-03B106389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A207-A334-423A-BB97-AE7101B14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D3AD9-235B-44DD-844A-17C0D3C91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D34B0-48A4-4334-A339-35EAE73A2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3503A-3FEC-4C4D-86CF-F7757256B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88FA7-4209-468D-B506-648F67C67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67C-3416-42DE-B353-9721D179C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3E457-E475-4B7D-8AD7-D86DFB3593F8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DB2751-230B-4223-B97A-9DA1F717A8D5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Педагогическая практика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актику проходил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хтареев Оле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фаров Ильна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ереселидзе Гиорг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Шерышов Владисла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афарова Аи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машула Ольг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Янбеков Данир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илимзянов Робер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зат Гатаулл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http://cs.nblz.ru/pp/c639119/v639119722/9254/Vr6umYF7i1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Спасибо за внимание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" descr="http://cs.nblz.ru/pp/c639731/v639731308/725/1uFRQf9N3e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Гафаров Ильнар проводи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9" name="" descr="http://cs.nblz.ru/pp/c636426/v636426308/4b733/0tpAg_xe9f8.jpg"/>
          <p:cNvPicPr/>
          <p:nvPr/>
        </p:nvPicPr>
        <p:blipFill>
          <a:blip r:embed="rId2"/>
          <a:stretch/>
        </p:blipFill>
        <p:spPr>
          <a:xfrm>
            <a:off x="0" y="838080"/>
            <a:ext cx="9144000" cy="60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-360"/>
            <a:ext cx="85104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анир и Азат проводят урок в 4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http://cs.nblz.ru/pp/c636426/v636426308/4b702/AVV-JNh8vU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http://cs.nblz.ru/pp/c636426/v636426308/4b6e6/6a9vZy41db0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Аида проводит урок в 5 классе</a:t>
            </a:r>
            <a:endParaRPr b="0" lang="en-US" sz="36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8" name="" descr="http://cs.nblz.ru/pp/c636426/v636426308/4b73d/yUhbSBEjxTk.jpg"/>
          <p:cNvPicPr/>
          <p:nvPr/>
        </p:nvPicPr>
        <p:blipFill>
          <a:blip r:embed="rId2"/>
          <a:stretch/>
        </p:blipFill>
        <p:spPr>
          <a:xfrm>
            <a:off x="0" y="914400"/>
            <a:ext cx="914400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http://cs.nblz.ru/pp/c639621/v639621913/5483/cdQJarZgt08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0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Ахтареев Олег заполняет документацию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" descr="http://cs.nblz.ru/pp/c837320/v837320368/220f3/qQlYrTTSuh8.jpg"/>
          <p:cNvPicPr/>
          <p:nvPr/>
        </p:nvPicPr>
        <p:blipFill>
          <a:blip r:embed="rId2"/>
          <a:stretch/>
        </p:blipFill>
        <p:spPr>
          <a:xfrm>
            <a:off x="0" y="990720"/>
            <a:ext cx="914400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0"/>
            <a:ext cx="8510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Шерышов Владислав проводит урок в 1 классе</a:t>
            </a:r>
            <a:endParaRPr b="0" lang="en-US" sz="32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http://cs.nblz.ru/pp/c639119/v639119722/925e/tcmxwqkcE7M.jpg"/>
          <p:cNvPicPr/>
          <p:nvPr/>
        </p:nvPicPr>
        <p:blipFill>
          <a:blip r:embed="rId2"/>
          <a:stretch/>
        </p:blipFill>
        <p:spPr>
          <a:xfrm>
            <a:off x="0" y="1198440"/>
            <a:ext cx="9144000" cy="565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</cp:lastModifiedBy>
  <dcterms:modified xsi:type="dcterms:W3CDTF">2017-02-08T05:29:51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